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D4F-F847-4FBC-9BD9-3DCB02D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525-CD8B-4392-B7E1-299DEEA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ACD-98C2-4896-A00E-E765897C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BF3-8951-4A26-8659-FC88AE07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AA4-D0A3-4EA5-B444-4C1D4203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C9A-D238-45ED-BFCC-2575024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ACC-8D6B-4C47-BABB-47DE3670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772-6F15-45E0-BF8D-984B1D7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169-4B9F-41D7-BA63-0D95ACA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8AD-6A14-4FF7-8953-7E79443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092-706D-4AD8-B5C4-FBC91C2A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22E-C6A5-411B-B663-3748BA8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2F5-6C1A-4C8E-9740-14BC7041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OCI:Main_Pag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49" t="16796" r="14791" b="72838"/>
          <a:stretch/>
        </p:blipFill>
        <p:spPr>
          <a:xfrm>
            <a:off x="0" y="927000"/>
            <a:ext cx="9144000" cy="7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Communities an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3749" t="38979" r="15627" b="5729"/>
          <a:stretch/>
        </p:blipFill>
        <p:spPr>
          <a:xfrm>
            <a:off x="0" y="1727280"/>
            <a:ext cx="91440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160" y="1752480"/>
            <a:ext cx="9077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1.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(CC)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Representatives of the communities -&gt; Monthly con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2816280"/>
            <a:ext cx="558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2. Developers WG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CC and other communities’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eekly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ferences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29240" y="3114720"/>
            <a:ext cx="9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160" y="5346720"/>
            <a:ext cx="14000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3. Advisors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66720" y="2486160"/>
            <a:ext cx="8392680" cy="4310640"/>
            <a:chOff x="666720" y="2486160"/>
            <a:chExt cx="8392680" cy="4310640"/>
          </a:xfrm>
        </p:grpSpPr>
        <p:grpSp>
          <p:nvGrpSpPr>
            <p:cNvPr id="49" name=""/>
            <p:cNvGrpSpPr/>
            <p:nvPr/>
          </p:nvGrpSpPr>
          <p:grpSpPr>
            <a:xfrm>
              <a:off x="2976480" y="2486160"/>
              <a:ext cx="6082920" cy="4310640"/>
              <a:chOff x="2976480" y="2486160"/>
              <a:chExt cx="6082920" cy="4310640"/>
            </a:xfrm>
          </p:grpSpPr>
          <p:pic>
            <p:nvPicPr>
              <p:cNvPr id="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00240" y="2486160"/>
                <a:ext cx="6049080" cy="367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976480" y="6152400"/>
                <a:ext cx="6082920" cy="64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-&gt; cBiO will oversee th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Open BioMedical Ontology (OBO) initi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66720" y="6019920"/>
              <a:ext cx="2222640" cy="546120"/>
              <a:chOff x="666720" y="6019920"/>
              <a:chExt cx="2222640" cy="546120"/>
            </a:xfrm>
          </p:grpSpPr>
          <p:sp>
            <p:nvSpPr>
              <p:cNvPr id="53" name=""/>
              <p:cNvSpPr/>
              <p:nvPr/>
            </p:nvSpPr>
            <p:spPr>
              <a:xfrm>
                <a:off x="666720" y="6019920"/>
                <a:ext cx="5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6720" y="62103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6720" y="6566040"/>
                <a:ext cx="6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6019920"/>
                <a:ext cx="93960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89160" y="6203880"/>
                <a:ext cx="876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1333440" y="6280200"/>
                <a:ext cx="83196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1880" y="6280200"/>
                <a:ext cx="71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criptive research – research in which the investigator attempts to describe a group of individuals based on a set of variable in order to document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udy – description of one or more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al research – description of pattern of 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tive research – establishing normal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ative research – gathering data through interview or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aluation research – objectively assess a program or policy by describing the needs for the services or policy, often using surveys or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ort or case-control studies – establish associations through epidemiologic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ological studies – establish reliability and validity of a new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analysis – exploring new relationships in ol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ical research – reconstructing the past through an assessment of archives or other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domized clinical trial – controlled comparison of an experimental intervention allowing the assessment of the causes of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ubjec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tial clinical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research – assessment of the success of a program or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-experiment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-analysis – statistically combining findings from several different studies to obtain a summar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rui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iz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roll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gible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en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ature termin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lud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d post-randomiz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randomiz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nroll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ligible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d-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arm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ov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group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nt-to-treat population - based on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-protocol population - exclude those with serious protocol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ony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subset of a larger population, selected for investigation to draw conclusions or make estimates about the larger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number of subjects in a clinical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umber of subjects required for primary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</a:t>
            </a:r>
            <a:r>
              <a:rPr b="0" lang="en-GB" sz="3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Heterogeneity but for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90720"/>
            <a:ext cx="881388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verse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mics 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andardization effort people (MGED, PSI, 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‘running’ (public) repositories, primary + secondar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oftware engineers, modellers, biologists, data-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from the semantic web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endors and manufacturers (n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fferent maturity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needs to ‘rebuild’, e.g. MGED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are starting now, e.g. 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Plurality of (prospective)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iving data entry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Indexing of experimental data, minimal information lists, x-db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pplying it to text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enchmarking, enrichment,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ncoding facts from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uilding knowledge bases relying on RDF triple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Development Strateg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14400"/>
            <a:ext cx="8813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Collabor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ecide on a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op-level ontology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to hook-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Leverage on Basic Formal Ontology (B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gree on an initial structure (trunk) with is_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Rely on Relation Ontology (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_of (currently expressed in the taxonomy as cardinal_part_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icipates_in (input) and derives_from (output), located_i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gree o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aming convention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nd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etadat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Common working practices, for building, editing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Within community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llect use cases: real examples and potential usage of the ontolog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Gather terms and definitions: 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ottom-up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Branch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lit the development i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ranch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for focused working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ioMaterial, Data Transformation,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(design and protocol), Role, Protoco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for distributed development: SVN, import functions,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ols and Docum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920880"/>
            <a:ext cx="900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150120" indent="-15012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Open source, standards compliant and vers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ntology Web Language (OWL) using Protégé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BI.owl files are available from the OBI SVN Reposi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0" y="2022480"/>
            <a:ext cx="90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p Level Clas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279440"/>
            <a:ext cx="8864640" cy="54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Independent 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ands on its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ll physical entities (instrument, technology platform, documen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Biological material (organism, population etc.)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Dependent 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heres from another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nvironment (depend on the set of ranges of conditions, e.g. geographic lo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haracteristics (entity that can be measured, e.g. temperature,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- Realizab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an entity that is realized through a process</a:t>
            </a:r>
            <a:r>
              <a:rPr b="0" lang="en-GB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executed/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Software (a set of machine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Design (the plan that can be realized in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Role (the part played by an entity within the context of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ccurre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occurs/unfold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emporal Regions, Spatio-Temporal Regions (single actions or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Process</a:t>
            </a:r>
            <a:r>
              <a:rPr b="1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Investigation (the entire ‘experimental’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ssay (process of performing some tests and recording the resul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Main Activities an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" y="941400"/>
            <a:ext cx="899172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Continue branches activities </a:t>
            </a:r>
            <a:r>
              <a:rPr b="0" i="1" lang="en-GB" sz="2000" spc="-1" strike="noStrike">
                <a:solidFill>
                  <a:srgbClr val="af1b45"/>
                </a:solidFill>
                <a:latin typeface="Trebuchet MS"/>
              </a:rPr>
              <a:t>(iterativ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llect term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from the communitie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APRIL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rt terms by relevance to one or other branch, or to other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rmalize terms, add metadata tags (e.g. definition and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in terms into the relevant top leve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Finalize the 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view branches and m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rge with the trunk into a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re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JULY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ace-2-face workshop for Coordinato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Test the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o user communities fo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estin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et up tracker tool for gathering comments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Enrich the ont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llect othe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term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Lay out landscape of missing communities</a:t>
            </a:r>
            <a:r>
              <a:rPr b="1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rui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new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y and inclusivit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bioontology.org/wiki/index.php/OCI:Main_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Google “OCI wik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top down/bottom up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d term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hom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membership into BFO/OBI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terms within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I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20" y="936720"/>
            <a:ext cx="4840200" cy="46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05280" y="1770120"/>
            <a:ext cx="5095800" cy="496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1407960"/>
            <a:ext cx="3506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68480" y="1612800"/>
            <a:ext cx="33526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0" b="11599"/>
          <a:stretch/>
        </p:blipFill>
        <p:spPr>
          <a:xfrm>
            <a:off x="3808440" y="1855800"/>
            <a:ext cx="254952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35895" b="0"/>
          <a:stretch/>
        </p:blipFill>
        <p:spPr>
          <a:xfrm>
            <a:off x="5402160" y="2162160"/>
            <a:ext cx="363240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1:52Z</dcterms:modified>
  <cp:revision>42</cp:revision>
  <dc:subject/>
  <dc:title>CTO - Clinical Trials/Research in the Ontology of Biomedical Investigation</dc:title>
</cp:coreProperties>
</file>